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0D5A-7449-45FA-B3A3-E050A3A52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C707-77BE-4C38-B7BC-595A0CD3C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box on pag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EA66-1A20-4DAE-9B23-3D1D3F77FC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090C-CB91-4055-BF44-D20834945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F33-F677-4854-839B-9F3E9FA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268-92C4-47AE-9BB7-3B49AE75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595-A82A-4B3D-ADDA-A93CF2F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C6-433B-48A9-8112-014974F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A6F-36AB-4864-AD29-9CCEEEBB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21A-E66F-4958-A9EB-2EC8D34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938-0EC9-48E9-BA94-0F80DBC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A8C-D3B4-4C80-A693-45CA39F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86C-F61B-4B92-B43E-D018DEA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8E1-1DCD-410A-BE2B-60D3456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6DE-BE43-4C98-A8E4-9FA27F6C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69F-7294-496F-8481-0C1D441F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Heavy H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23160" y="29718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1600200" y="64771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Working Ms Roboto\Gary Bauer\2014 Supplements\Gosselin\PPTs - Laura Becker\Gosselin 5e cover.jpg"/>
          <p:cNvPicPr/>
          <p:nvPr/>
        </p:nvPicPr>
        <p:blipFill>
          <a:blip r:embed="rId4"/>
          <a:stretch/>
        </p:blipFill>
        <p:spPr>
          <a:xfrm>
            <a:off x="762120" y="1905120"/>
            <a:ext cx="3370320" cy="42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7"/>
          <p:cNvSpPr/>
          <p:nvPr/>
        </p:nvSpPr>
        <p:spPr>
          <a:xfrm>
            <a:off x="1600200" y="6324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Heavy Hands: An Introduction to the Crime of Intimate and Family Violence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Fifth Edi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Denise Goss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911F-1BDE-446D-912B-CDFB011A0A8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ericanbar.org/content/dam/aba/migrated/aging/docs/MandatoryReportingProvisionsChart.authcheckdam.pdf" TargetMode="External"/><Relationship Id="rId2" Type="http://schemas.openxmlformats.org/officeDocument/2006/relationships/hyperlink" Target="http://www.americanbar.org/content/dam/aba/migrated/aging/docs/MandatoryReportingProvisionsChart.authcheckdam.pd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952880" y="3809880"/>
            <a:ext cx="3962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648320" y="4038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use in Lat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usal or failure by those responsible to provide food, shelter, health care, or protection for a vulnerabl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ning signs include sunken eyes or loss of weight, extreme thirst, and beds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when a caregiver is unable or unwilling to provide the necessary care for an older adult for whom he or she is respon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occur even when there is no willful desire to inflict physical or emotional di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for neglect include the fol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drawal or denial of health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reated injuries and ill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ial of adequate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proper hygi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and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ional and permanent desertion of an older adult in any place (such as a hospital, nursing facility, shopping center, or public location) or leaving the person without the means or ability to obtain necessary food, clothing, shelter, health care, or financial sup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iegel, L., &amp; Klem, E. (2007). Reporting requirements: Provisions and citations in adult protective services laws, by state. Retrieved from </a:t>
            </a:r>
            <a:r>
              <a:rPr b="0" lang="en-US" sz="1000" spc="-1" strike="noStrike" u="sng">
                <a:solidFill>
                  <a:srgbClr val="3232c8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3232c8"/>
                </a:solidFill>
                <a:uFillTx/>
                <a:latin typeface="Verdana"/>
                <a:hlinkClick r:id="rId2"/>
              </a:rPr>
              <a:t>www.americanbar.org/content/dam/aba/migrated/aging/docs/MandatoryReportingProvisionsChart.authcheckdam.pdf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ulnerability and Undue Influ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who are dependent on others for basic care are particularly vulner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victims are people are frail, vulnerable, and cannot help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may not seek help du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ertainty about whom to talk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ertainty about what can be d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ar of not being believ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ar of getting involv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ulnerability and Undue Influ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ue influ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when people use their role with the older adult to exploit the trust, dependency, and fear of oth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ptive use of power is used to gain control over the decision-making of the vulnerable adul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ulnerability is not related to the person’s intellig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gnitive impairment may make the manipulation easier to accomplis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equence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quences of elder abu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e emotional distress, higher rates of depression, higher rates of suic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of dignity and misplaced feelings of self-blame and gui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 discussing the crime or participating in a medical exam with law enforcement and medical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lings of embarrassment that family members and/or neighbors will find out abuse occu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ivil Versus Criminal A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ermination of civil versus criminal action for abuse against older adults is extremely complex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ts of abandonment or commitment to an institution make many older adults reluctant to follow through with criminal court proceed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al settings prefer to handle their own “problems” and historically do not pursue criminal avenues for redr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ndated Repor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reporting la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ly require physicians, nurses, social workers, and others designated by the state to report suspected abuse against older adults to 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adult protective serv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</a:rPr>
              <a:t>Pers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law to report suspected abuse or neglect vary by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porter is required to document when he or she saw abuse taking place or when there is a reasonable belief that it is occur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iegel, L., &amp; Klem, E. (2007). Reporting requirements: Provisions and citations in adult protective services laws, by state. Retrieved from http://www.americanbar.org/content/dam/aba/migrated/aging/docs/MandatoryReportingProvisionsChart.authcheckdam.pdf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olice Respo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 enforcement is encouraged to use a multidisciplinary approach in investig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lapping responsibilities of multiple state agencies is recomm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ppropriate course of action may be difficult to determine in neglectful sit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robable cause to believe a crime has been committed does exist, officers must consider existing domestic violence law in their st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pter Obj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various categories of elder abu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ive examples of forms of violence against older adults that are unique to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the differences in civil versus criminal action in cases of abuse against older adul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49"/>
              </a:spcBef>
              <a:buClr>
                <a:srgbClr val="214c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the problems for the elder community in accessing criminal justice interven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s are the least likely to become victims of violent crime in the U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y crime, not personal violence, typically provides the highest percentage of crime against persons age 65 or ol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ureau of Justice Statistics. (BJS). (2012). Violent crime against the elderly reported by law enforcement in Michigan, 2005–2009.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Special Report: National Incident-Based Reporting Sustem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. Washington, DC: Department of Justic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val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adult abuse is defined to include individuals who are 60 or 65 years and old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vate nature of elder abuse makes it difficult to determine the exact numbers of individuals who are aff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tegories of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ltreatment falls within three categori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domestic elder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ltreatment by someone who has a special relationship with the older per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al elder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use of an older adult who lives in a long-term care facility, nursing home, or residential care fac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neglect or self-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havior of an older adult that threatens his or her own health or safe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icting or threatening to inflict physical pain or injury on a vulnerable older adult, or depriving that person of a basic ne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battering, assault, and inappropriate restra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abuses range from slapping or shoving to restraining with ropes or chai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caregiver or other person uses enough force to cause injury or unnecessary pain, even if the harm was not inten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/Psychologic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ful infliction of mental or emotional anguish by threat, humiliation, intimidation, or other abusive con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difficult type of abuse to ident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verbal or nonverbal a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volve name-calling, using intimidating and threatening language, or causing fear, mental anguish, and emotional pain to th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xual Ab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consensual sexual contact of any k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der victims are less likely to report sexual abuse than are younger vict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range from sexual exhibition to inappropriate touching, photographing the person in suggestive poses, and forcing the person to look at porn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volve rape, sodomy, or coerced nu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rms of Elder Abu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Explo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egally taking, misuse, or concealment of funds, property, or assets of a vulnerable older ad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 fiduciary abuse, financial abuse, economic abuse, and financial mis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vers a broad range of conduct that is difficult to define and to pr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rarely possible to prove criminal knowledge of incompetence and i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21:31:15Z</dcterms:created>
  <dc:creator>cjcoordccol</dc:creator>
  <dc:description/>
  <dc:language>en-US</dc:language>
  <cp:lastModifiedBy>Cecil, Kevin</cp:lastModifiedBy>
  <dcterms:modified xsi:type="dcterms:W3CDTF">2013-09-16T14:05:28Z</dcterms:modified>
  <cp:revision>91</cp:revision>
  <dc:subject/>
  <dc:title>Slide 1</dc:title>
</cp:coreProperties>
</file>